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702-1D20-44C0-8AD7-BFE3699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FF9-E8F7-4AFF-92A9-DD233C41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308-B740-4F57-81A2-60140E7E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0B6-1C4E-4A84-A35B-5D74049B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A49-E2BB-42A5-866A-4E11DE4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A81-6F12-404F-8B0A-CD9EDD56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3C0-6D2B-4DB5-8FE2-869915E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12B-2BA0-43E3-B93C-CD6F65B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065-2D4D-46C3-8584-C40B3FD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25A-CB3A-4499-A0D4-592C4B37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C28-811A-4694-BEE9-46DD4C9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C76-F10E-4277-8EB5-AA64C974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B911-E7B2-413D-AC72-D9B0B40A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ean Zeng and Thomas Jaehn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type of 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Most of Russia is a subarctic and tundra climate which makes the land bad for far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he Ring of Fire in the Kamchatka Peninsula causes trouble for the people in parts of Russia because the volcanoes are still active in the Kamchatka Penins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he ice along the coast can cause shipping to be terr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lso some ports close from the ice along the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380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River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ome main rivers are the Don river, the Volga river, and the Pechora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 rivers in Russia freeze which is not good for transpor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lso during the winter the Caspian sea freezes which can b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ne more important thing is that since there is a lot of Global Warming the arctic effects a lot of  north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Russian l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re are many lakes including Baikal Lake, Ladoga Lake, and the Pskovskoye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 lot of the lakes in Russia are polluted and are d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ne good thing the lakes provide is 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nd form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land forms of all sort like peninsulas, bays, mountains, lakes, plateaus, and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 lot of volcanoes in Russia but a main spot is on a peninsula called The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a lot of bodies of water but one main one is the Caspian 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nd form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land forms of all sort like peninsulas, bays, mountains, lakes, plateaus, and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 lot of volcanoes in Russia but a main spot is on a peninsula called The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a lot of bodies of water but one main one is the Caspian 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43:43Z</dcterms:created>
  <dc:creator> </dc:creator>
  <dc:description/>
  <dc:language>en-US</dc:language>
  <cp:lastModifiedBy> </cp:lastModifiedBy>
  <dcterms:modified xsi:type="dcterms:W3CDTF">2010-12-20T18:35:40Z</dcterms:modified>
  <cp:revision>5</cp:revision>
  <dc:subject/>
  <dc:title>Russia’s Land</dc:title>
</cp:coreProperties>
</file>